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DCAC-7A8C-41D1-9ED8-E874A40FE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5978-4743-474E-8C5F-A63DDCED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74D2-5BB3-4FD2-8CCC-B2B9BBC7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C198-9387-4205-8CCE-4D920DA0F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3E8B-6F2A-4B9A-9A3E-6D1296A4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2107-F758-4864-9723-90E11C97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80CB-B300-40B8-A5E4-DBCC9F83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4F15-83A3-4800-A11F-4DAA8C6D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75DB-84C6-425F-945B-768FC024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71C5-F47F-4BE4-8CA4-0C129EC4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FE1B-8592-4C3C-80BF-D2E9BA4F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AB69-09BE-4B8C-AC6C-02EAEFED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087A-B01E-4B63-BA56-06678EAC96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495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Pointedly Mad"/>
              </a:rPr>
              <a:t>The Hatfields and McCoy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Pointedly Mad"/>
              </a:rPr>
              <a:t>The Original Family Fe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5" descr="hatfields2"/>
          <p:cNvPicPr/>
          <p:nvPr/>
        </p:nvPicPr>
        <p:blipFill>
          <a:blip r:embed="rId1"/>
          <a:stretch/>
        </p:blipFill>
        <p:spPr>
          <a:xfrm>
            <a:off x="1600200" y="380880"/>
            <a:ext cx="60958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Pointedly Mad"/>
              </a:rPr>
              <a:t>1882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c08d"/>
                </a:solidFill>
                <a:latin typeface="Arial"/>
              </a:rPr>
              <a:t>On August 9, Bud, Tolbert, and Pharmer McCoy killed Ellison Hatfi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c08d"/>
                </a:solidFill>
                <a:latin typeface="Arial"/>
              </a:rPr>
              <a:t>The three McCoys were tied to bushes and executed by the Hatfiel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c08d"/>
                </a:solidFill>
                <a:latin typeface="Arial"/>
              </a:rPr>
              <a:t>Jeff McCoy was later killed on the banks of the Tug Fork Ri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8" descr="htfld053"/>
          <p:cNvPicPr/>
          <p:nvPr/>
        </p:nvPicPr>
        <p:blipFill>
          <a:blip r:embed="rId1"/>
          <a:stretch/>
        </p:blipFill>
        <p:spPr>
          <a:xfrm>
            <a:off x="5105520" y="1295280"/>
            <a:ext cx="309564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Pointedly Mad"/>
              </a:rPr>
              <a:t>1888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Alifair and Calvin McCoy are brutally murdered in a Hatfield raid on the McCoy cab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The McCoy cabin is burned to the gr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Roseanna McCoy died later that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Pointedly Mad"/>
              </a:rPr>
              <a:t>Map of the Feud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73" name="Picture 5" descr="map"/>
          <p:cNvPicPr/>
          <p:nvPr/>
        </p:nvPicPr>
        <p:blipFill>
          <a:blip r:embed="rId1"/>
          <a:stretch/>
        </p:blipFill>
        <p:spPr>
          <a:xfrm>
            <a:off x="304920" y="1676520"/>
            <a:ext cx="838188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Pointedly Mad"/>
              </a:rPr>
              <a:t>Lessons Learned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c08d"/>
                </a:solidFill>
                <a:latin typeface="Arial"/>
              </a:rPr>
              <a:t>When the dust settled, the two families eventually put the feud behind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c08d"/>
                </a:solidFill>
                <a:latin typeface="Arial"/>
              </a:rPr>
              <a:t>The families intermarri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c08d"/>
                </a:solidFill>
                <a:latin typeface="Arial"/>
              </a:rPr>
              <a:t>Today, they hold an annual reunion, and the only feuding they do is on the baseball fi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5" descr="feudreunion"/>
          <p:cNvPicPr/>
          <p:nvPr/>
        </p:nvPicPr>
        <p:blipFill>
          <a:blip r:embed="rId1"/>
          <a:stretch/>
        </p:blipFill>
        <p:spPr>
          <a:xfrm>
            <a:off x="4267080" y="19051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Pointedly Mad"/>
              </a:rPr>
              <a:t>Learn Mor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Read </a:t>
            </a:r>
            <a:r>
              <a:rPr b="0" i="1" lang="en-US" sz="3200" spc="-1" strike="noStrike">
                <a:solidFill>
                  <a:srgbClr val="dfc08d"/>
                </a:solidFill>
                <a:latin typeface="Arial"/>
              </a:rPr>
              <a:t>The Coffin Quilt</a:t>
            </a: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 by Ann Rinal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Visi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libby-genealogy.com/hatfield-mccoy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Visi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blueridgecountry.com/hatmac/hatmac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Visi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userwww.service.emory.edu/~dmcco01/McCoy/diversion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Pointedly Mad"/>
              </a:rPr>
              <a:t>Grangerfords and Shepherdson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05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All of a sudden, bang! bang! bang! go three or four guns.... The boys jumped for the river - both of them hurt - and as they swum down the current the men run along the bank shooting at them and signing out, ‘Kill them, kill them!’ It made me sick.... I wished I hadn’t come ashore that night to see such thing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c08d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dfc08d"/>
                </a:solidFill>
                <a:latin typeface="Arial"/>
              </a:rPr>
              <a:t>The Adventures of Huckleberry Fi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c08d"/>
                </a:solidFill>
                <a:latin typeface="Arial"/>
              </a:rPr>
              <a:t>Chapter X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Pointedly Mad"/>
              </a:rPr>
              <a:t>Family Feud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Long before the television game show, real families were involved in bloody family feu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Aside from the Shephersons and Grangerfords, other fictional feuding families include the Capulets and the Montag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Pointedly Mad"/>
              </a:rPr>
              <a:t>The Hatfields and the McCoy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From 1878 to 1896, two Appalachian families, the Hatfields and the McCoys, were embroiled in the most famous historical family feu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More than a dozen lives were l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Was this feud the inspiration for the Shepherson-Grangerford feud?  Possibly… YOU be the ju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Pointedly Mad"/>
              </a:rPr>
              <a:t>Why did it happen?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c08d"/>
                </a:solidFill>
                <a:latin typeface="Arial"/>
              </a:rPr>
              <a:t>The Civil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c08d"/>
                </a:solidFill>
                <a:latin typeface="Arial"/>
              </a:rPr>
              <a:t>The stolen p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c08d"/>
                </a:solidFill>
                <a:latin typeface="Arial"/>
              </a:rPr>
              <a:t>Romeo and Juliet of the Appalach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9" descr="htfld001"/>
          <p:cNvPicPr/>
          <p:nvPr/>
        </p:nvPicPr>
        <p:blipFill>
          <a:blip r:embed="rId1"/>
          <a:stretch/>
        </p:blipFill>
        <p:spPr>
          <a:xfrm>
            <a:off x="888840" y="1523880"/>
            <a:ext cx="3486240" cy="42944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1527480" y="586728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c08d"/>
                </a:solidFill>
                <a:latin typeface="Arial"/>
              </a:rPr>
              <a:t>Devil Anse Hat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Pointedly Mad"/>
              </a:rPr>
              <a:t>The Civil War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c08d"/>
                </a:solidFill>
                <a:latin typeface="Arial"/>
              </a:rPr>
              <a:t>In the Civil War, the two families were on opposite sides of the war.  The Hatfields fought for the Confederacy, while the McCoys fought for the Un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c08d"/>
                </a:solidFill>
                <a:latin typeface="Arial"/>
              </a:rPr>
              <a:t>During the war, Anderson “Devil Anse” Hatfield supposedly killed Harmon McCoy in batt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c08d"/>
                </a:solidFill>
                <a:latin typeface="Arial"/>
              </a:rPr>
              <a:t>Devil Anse came home a Confederate capt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489640" y="5257800"/>
            <a:ext cx="25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c08d"/>
                </a:solidFill>
                <a:latin typeface="Arial"/>
              </a:rPr>
              <a:t>Harmon McCo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c08d"/>
                </a:solidFill>
                <a:latin typeface="Arial"/>
              </a:rPr>
              <a:t>Brother of Ran’l McCo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12" descr="htfld045"/>
          <p:cNvPicPr/>
          <p:nvPr/>
        </p:nvPicPr>
        <p:blipFill>
          <a:blip r:embed="rId1"/>
          <a:stretch/>
        </p:blipFill>
        <p:spPr>
          <a:xfrm>
            <a:off x="5486400" y="1523880"/>
            <a:ext cx="254016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Pointedly Mad"/>
              </a:rPr>
              <a:t>The Stolen Pig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c08d"/>
                </a:solidFill>
                <a:latin typeface="Arial"/>
              </a:rPr>
              <a:t>In 1878, there was a dispute over ownership of a razor-backed hog in a Hatfield pigs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c08d"/>
                </a:solidFill>
                <a:latin typeface="Arial"/>
              </a:rPr>
              <a:t>The judge in the court dispute, a Hatfield, sided with his k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c08d"/>
                </a:solidFill>
                <a:latin typeface="Arial"/>
              </a:rPr>
              <a:t>After the court decision, a group of McCoys ambushed Hatfields while hunt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6" descr="htfld032"/>
          <p:cNvPicPr/>
          <p:nvPr/>
        </p:nvPicPr>
        <p:blipFill>
          <a:blip r:embed="rId1"/>
          <a:stretch/>
        </p:blipFill>
        <p:spPr>
          <a:xfrm>
            <a:off x="5562720" y="1371600"/>
            <a:ext cx="2222280" cy="43052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4804200" y="5638680"/>
            <a:ext cx="36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c08d"/>
                </a:solidFill>
                <a:latin typeface="Arial"/>
              </a:rPr>
              <a:t>Floyd Hatfield – Accused Pig Thi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Pointedly Mad"/>
              </a:rPr>
              <a:t>Romeo and Juliet of the Appalachian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c08d"/>
                </a:solidFill>
                <a:latin typeface="Arial"/>
              </a:rPr>
              <a:t>In 1880, Johnse Hatfield, son of Devil Anse, ran off with Roseanna McCoy at an Election Day pic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c08d"/>
                </a:solidFill>
                <a:latin typeface="Arial"/>
              </a:rPr>
              <a:t>This outraged Randolph “Ran’l” McCoy, Roseanna’s fa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c08d"/>
                </a:solidFill>
                <a:latin typeface="Arial"/>
              </a:rPr>
              <a:t>The feud escalate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htfld049"/>
          <p:cNvPicPr/>
          <p:nvPr/>
        </p:nvPicPr>
        <p:blipFill>
          <a:blip r:embed="rId1"/>
          <a:stretch/>
        </p:blipFill>
        <p:spPr>
          <a:xfrm>
            <a:off x="5029200" y="1371600"/>
            <a:ext cx="3111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Pointedly Mad"/>
              </a:rPr>
              <a:t>1881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In 1881 Roseanna and Johnse split up after she lived, unwed, with Johnse and the Hatfields for several months.  She was pregnant.  She caught measles while pregnant and the baby di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Roseanna rode all the way back to Devil Anse’s home to warn Johnse of an ambush set up by her br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Johnse married Roseanna’s cousin Nancy later that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22:11:17Z</dcterms:created>
  <dc:creator>Dana Huff</dc:creator>
  <dc:description/>
  <dc:language>en-US</dc:language>
  <cp:lastModifiedBy>BBates</cp:lastModifiedBy>
  <dcterms:modified xsi:type="dcterms:W3CDTF">2009-10-06T16:12:05Z</dcterms:modified>
  <cp:revision>3</cp:revision>
  <dc:subject/>
  <dc:title>The Hatfields and McCoys</dc:title>
</cp:coreProperties>
</file>